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9BD-C30E-448F-A4A2-607205F1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2EA-59C6-4C40-AE4A-B9321928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050-18E8-4F42-87F4-17356E76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FB2-201C-413A-9C81-1CD50D29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BF0-6A68-44A8-BAA4-AF076947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3E3-C377-4643-9C31-E8E3E1C8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0D2-7D06-4822-B59D-18DBF997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81D-30E9-4721-BC0D-B1291991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00C-18E9-45CB-952F-C2ECEBB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A35-4A12-4CB2-A7E4-59D56D53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E7C-8C72-45FA-8F49-DD0AD63D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855-D3A0-4A2B-B0FD-2C9BCF40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910C-04F0-48FA-A471-BAE33FDFF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22solid gre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rpose of Adviso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AP Career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sei_enroute_22solid gre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AP Career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ge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AT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a College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eer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This year we will be looking at the steps to becoming financially mature, how to be responsible with your money, and how to build weal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sei_enroute_7by lan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ro to personal fin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ving &amp; budge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nking &amp; consumer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edit &amp; deb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 loans &amp; ren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vesting &amp; retir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2:44:50Z</dcterms:created>
  <dc:creator>admin</dc:creator>
  <dc:description/>
  <dc:language>en-US</dc:language>
  <cp:lastModifiedBy>Leif Erickson</cp:lastModifiedBy>
  <dcterms:modified xsi:type="dcterms:W3CDTF">2011-08-07T15:00:53Z</dcterms:modified>
  <cp:revision>6</cp:revision>
  <dc:subject/>
  <dc:title>Junior Class Advisory</dc:title>
</cp:coreProperties>
</file>